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25B-130A-4549-977E-D2292148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89D-F1CF-43F9-A665-49222BCA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BE4-1FB7-4914-8065-9DB2C6EB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B12-79E4-43DA-AA68-4DC1A63A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F54D-E298-4CC7-BD51-DCAC8930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574E-48D2-4374-AE71-16050AF6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6CA5-341D-4FD8-93C1-432AE44E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4456-8886-4569-8F2D-504872F4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EEE6-F1A6-4B84-A81A-91B6002E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979F-3488-4786-AED6-3F617167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0975-22B4-4B2C-A02D-C54B511C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CB2-A3C1-4626-A338-99BF0402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EB1C-71DF-43E5-B0F6-361956D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4859-FE99-4523-A81F-5053B1F8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FFE4-E0B8-4588-9B92-CDD30D11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FD18-8E2F-4273-9BC2-558BA5F9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3920-21D3-4D56-A54A-B2CA49DE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CC9-1507-41C6-83DF-53423476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336-6ECE-4FB1-845E-6E9FC635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08C-8FC8-49D7-8A18-406D754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EB3-7DB9-438E-A002-09BFD87F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E54-BAA5-405C-A66D-73F3D3AA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D22-0331-4A54-A722-ECE5C39B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373-6CA5-4F94-853D-2F1E6FD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164A-DC7F-4636-A52D-2394DAEF4B7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47B6-93A3-4A6A-8219-BF42B3974BA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FRUMOSU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cc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ş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1773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2b2</cp:lastModifiedBy>
  <dcterms:modified xsi:type="dcterms:W3CDTF">2012-06-19T11:31:36Z</dcterms:modified>
  <cp:revision>38</cp:revision>
  <dc:subject/>
  <dc:title>SALARIUL</dc:title>
</cp:coreProperties>
</file>